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9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522-11F0-41E9-B77C-7A2CFA19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196-6422-41D2-B7A3-5F215D39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1E7-F61B-4C16-866F-955139AC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D35-7518-4CFE-BD17-557F73FA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B85-0F01-4FB6-AFE3-C508404C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AF8-0B2D-4A9D-8883-8F3A8091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98E-6C52-4DA5-99E9-B1C29023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685-AE79-44F4-867D-4EB62393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01E-615C-4B70-B563-93C37EF6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FCB-0DC0-452D-B57B-502DD637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4BD-7D1A-48F7-BD04-4B25D8B7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41D-648A-4108-B137-53EF112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4E2-4AB8-46C6-AA05-D860DED37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youtube.com/watch?v=mMGrIwLj7gU&amp;feature=related" TargetMode="External"/><Relationship Id="rId4" Type="http://schemas.openxmlformats.org/officeDocument/2006/relationships/hyperlink" Target="http://www.youtube.com/watch?v=QdpEaPxNW0g&amp;feature=related" TargetMode="External"/><Relationship Id="rId5" Type="http://schemas.openxmlformats.org/officeDocument/2006/relationships/hyperlink" Target="http://www.youtube.com/watch?v=mReH_vgrf-U&amp;feature=related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kronstadt-uprising.co.uk/html/artwork.htm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Communist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labour"/>
          <p:cNvPicPr/>
          <p:nvPr/>
        </p:nvPicPr>
        <p:blipFill>
          <a:blip r:embed="rId1"/>
          <a:stretch/>
        </p:blipFill>
        <p:spPr>
          <a:xfrm>
            <a:off x="0" y="0"/>
            <a:ext cx="3809880" cy="271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lag_33_1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1808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838080" y="5257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mMGrIwLj7g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outube.com/watch?v=QdpEaPxNW0g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youtube.com/watch?v=mReH_vgrf-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cals and Revolu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Urban Radicals created two compet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volut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volution will start from the Peasan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oor would start the new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dimir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90560" y="106632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xist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Social Democrat (poor urban class would initiate the Revolution together w/a small cad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(radical) was killed by Alexander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weak Support Lenin and his followers manage to take control of Russia in October 19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21 suffers stroke, 1924 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enin-good"/>
          <p:cNvPicPr/>
          <p:nvPr/>
        </p:nvPicPr>
        <p:blipFill>
          <a:blip r:embed="rId1"/>
          <a:stretch/>
        </p:blipFill>
        <p:spPr>
          <a:xfrm>
            <a:off x="0" y="0"/>
            <a:ext cx="239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sheviks and Menshiv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Democrats split into 2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in leads the Bolshevi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sheviks (majority) believe the time has come for the Revolution and a small group would overthrow the Czar and creat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ICTATORSHIP OF THE PROLETE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2"/>
          <p:cNvPicPr/>
          <p:nvPr/>
        </p:nvPicPr>
        <p:blipFill>
          <a:blip r:embed="rId1"/>
          <a:stretch/>
        </p:blipFill>
        <p:spPr>
          <a:xfrm>
            <a:off x="5562720" y="472932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05 Revolution- Bloody 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44953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ing more rights 200,000 workers march on the Czar’s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s fire on the crowd, 500-1000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ward strikes spread through the country and a demand for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bloody%20sunday"/>
          <p:cNvPicPr/>
          <p:nvPr/>
        </p:nvPicPr>
        <p:blipFill>
          <a:blip r:embed="rId1"/>
          <a:stretch/>
        </p:blipFill>
        <p:spPr>
          <a:xfrm>
            <a:off x="2057400" y="609480"/>
            <a:ext cx="54864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arliament is created- “Dum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ar Nicholas II new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Manifesto of 190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 Parliament was created- called the D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icholas II will begin a more oppressiv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ReformInRussia"/>
          <p:cNvPicPr/>
          <p:nvPr/>
        </p:nvPicPr>
        <p:blipFill>
          <a:blip r:embed="rId1"/>
          <a:stretch/>
        </p:blipFill>
        <p:spPr>
          <a:xfrm>
            <a:off x="0" y="0"/>
            <a:ext cx="4495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ed with Great Britain, Serbia and France- Russia entered WWI- Allied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 prepared and lacking in industrialization Russia saw much death and destruction on the battle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ussians were killed in WWI than any 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ges on major cities led to famine and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nge adv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utin, a mystic monk began to advise Nicholas wife (Alexand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d the Czarina to not allow re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utin is famous in part for the various ways he was ultimately killed- poisoned (survived), shot (survived), thrown into icy waters (di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Rasputin"/>
          <p:cNvPicPr/>
          <p:nvPr/>
        </p:nvPicPr>
        <p:blipFill>
          <a:blip r:embed="rId1"/>
          <a:stretch/>
        </p:blipFill>
        <p:spPr>
          <a:xfrm>
            <a:off x="228600" y="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ww_rasputin_01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holas II and Alexandria- Abdi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ots over the price of bread, together with demands for new leadership because of the lack of food and coal cause Czar to leave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SIONAL GOVERNMENT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a led by moderates and conservatives (Constitutional Democrats- Menshiviks also invol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Kerensky led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Keren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Revolu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the War against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began to desert th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kerensky"/>
          <p:cNvPicPr/>
          <p:nvPr/>
        </p:nvPicPr>
        <p:blipFill>
          <a:blip r:embed="rId1"/>
          <a:stretch/>
        </p:blipFill>
        <p:spPr>
          <a:xfrm>
            <a:off x="0" y="0"/>
            <a:ext cx="203832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kerensky"/>
          <p:cNvPicPr/>
          <p:nvPr/>
        </p:nvPicPr>
        <p:blipFill>
          <a:blip r:embed="rId2"/>
          <a:stretch/>
        </p:blipFill>
        <p:spPr>
          <a:xfrm>
            <a:off x="5334120" y="3817800"/>
            <a:ext cx="38098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in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led and living in Switzerland, through the help of Germany (at war with Russia) is secretly brought back into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little popular support amongst Russ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ttempted coup fails, goes to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lenin-good"/>
          <p:cNvPicPr/>
          <p:nvPr/>
        </p:nvPicPr>
        <p:blipFill>
          <a:blip r:embed="rId1"/>
          <a:stretch/>
        </p:blipFill>
        <p:spPr>
          <a:xfrm>
            <a:off x="0" y="0"/>
            <a:ext cx="239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295280" y="533520"/>
            <a:ext cx="5639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380880" y="53352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to 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did Marx think would start a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was Russia’s political and economic situation prior to the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y was the Czar so unpop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factors made the Russian Revolution successf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hat were the obstacles to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How would you assess the success of the Communist government between 1921 and the 1930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PEACE, LAND AND BREA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my General tries to tak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enin and Bolsheviks gain popular support for defending Petrograd (St. Petersburg, and for 70 years, Leningr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Victory fuels popular support of Bolshevi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m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ctober 1917, the Bolsheviks threaten to fire shells at the Provisional Government- the mere threat leads to the takeover by th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potemkin%20photo%202"/>
          <p:cNvPicPr/>
          <p:nvPr/>
        </p:nvPicPr>
        <p:blipFill>
          <a:blip r:embed="rId1"/>
          <a:stretch/>
        </p:blipFill>
        <p:spPr>
          <a:xfrm>
            <a:off x="1371600" y="2905200"/>
            <a:ext cx="5715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ELECTION RESULTS – BOLSHEVIKS LOSE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efore th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olsheviks take government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ruce signed with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and Reform begins- Redistribution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OCTOBER 1917- FIRST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OLSHEVIKS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LENIN AND COLLEAGUES CANCEL ELEC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 Trot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447560"/>
            <a:ext cx="647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low leader of the Bolsheviks- Active since the 1905 Revolution (Bloody Sun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o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in’s right hand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with Stalin for power after Lenin’s death- many feared he would become a dic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in won- Trotsky escaped to Mexico City, later killed their by agents of Stalin’s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144"/>
          <p:cNvPicPr/>
          <p:nvPr/>
        </p:nvPicPr>
        <p:blipFill>
          <a:blip r:embed="rId1"/>
          <a:stretch/>
        </p:blipFill>
        <p:spPr>
          <a:xfrm>
            <a:off x="155520" y="46080"/>
            <a:ext cx="21430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ef Stalin-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ad, Bad and 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19360" y="1676520"/>
            <a:ext cx="4267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the Soviet Union from 1924-19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itarian and ruthless leader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to have killed between 10 and 2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for his “purg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talin"/>
          <p:cNvPicPr/>
          <p:nvPr/>
        </p:nvPicPr>
        <p:blipFill>
          <a:blip r:embed="rId1"/>
          <a:stretch/>
        </p:blipFill>
        <p:spPr>
          <a:xfrm>
            <a:off x="0" y="1438200"/>
            <a:ext cx="4352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year Civil War, Red Army v. Whi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Army wer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and other countries try to stop th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s 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onstadt upris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esson learned! </a:t>
            </a:r>
            <a:br>
              <a:rPr sz="40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900"/>
            </a:b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shevik Sailors Revolt against the new communist Government (March 19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ree Elections, Speech and Abolition of the Secret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rutally crushes the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unist Government is beginning to look as bad or worse than the Cz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776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conom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62320" y="1523880"/>
            <a:ext cx="6324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in changes course- Mixture of Capitalism and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can buy and sell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ivate busines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in becomes disabled with several strokes and later dies w/his death also goes the 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u1s6_9_1"/>
          <p:cNvPicPr/>
          <p:nvPr/>
        </p:nvPicPr>
        <p:blipFill>
          <a:blip r:embed="rId1"/>
          <a:stretch/>
        </p:blipFill>
        <p:spPr>
          <a:xfrm>
            <a:off x="0" y="0"/>
            <a:ext cx="2343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t “the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rr13b"/>
          <p:cNvPicPr/>
          <p:nvPr/>
        </p:nvPicPr>
        <p:blipFill>
          <a:blip r:embed="rId1"/>
          <a:stretch/>
        </p:blipFill>
        <p:spPr>
          <a:xfrm>
            <a:off x="838080" y="1371600"/>
            <a:ext cx="6858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nin’s Death lea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a power strug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763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will be Victorious, takes Absolut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itarian Government becomes Perma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LeninDies"/>
          <p:cNvPicPr/>
          <p:nvPr/>
        </p:nvPicPr>
        <p:blipFill>
          <a:blip r:embed="rId1"/>
          <a:stretch/>
        </p:blipFill>
        <p:spPr>
          <a:xfrm>
            <a:off x="0" y="0"/>
            <a:ext cx="276228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Stalin1sm"/>
          <p:cNvPicPr/>
          <p:nvPr/>
        </p:nvPicPr>
        <p:blipFill>
          <a:blip r:embed="rId2"/>
          <a:stretch/>
        </p:blipFill>
        <p:spPr>
          <a:xfrm>
            <a:off x="2362320" y="3505320"/>
            <a:ext cx="47242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zars of Russia- 19th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9-g-FS"/>
          <p:cNvPicPr/>
          <p:nvPr/>
        </p:nvPicPr>
        <p:blipFill>
          <a:blip r:embed="rId1"/>
          <a:stretch/>
        </p:blipFill>
        <p:spPr>
          <a:xfrm>
            <a:off x="228600" y="1828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5146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0101-matte"/>
          <p:cNvPicPr/>
          <p:nvPr/>
        </p:nvPicPr>
        <p:blipFill>
          <a:blip r:embed="rId2"/>
          <a:stretch/>
        </p:blipFill>
        <p:spPr>
          <a:xfrm>
            <a:off x="0" y="434340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2286000" y="60786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tzar"/>
          <p:cNvPicPr/>
          <p:nvPr/>
        </p:nvPicPr>
        <p:blipFill>
          <a:blip r:embed="rId3"/>
          <a:stretch/>
        </p:blipFill>
        <p:spPr>
          <a:xfrm>
            <a:off x="5029200" y="3886200"/>
            <a:ext cx="3809880" cy="2543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5486400" y="6553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olas II and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nickolas1"/>
          <p:cNvPicPr/>
          <p:nvPr/>
        </p:nvPicPr>
        <p:blipFill>
          <a:blip r:embed="rId4"/>
          <a:stretch/>
        </p:blipFill>
        <p:spPr>
          <a:xfrm>
            <a:off x="155520" y="46080"/>
            <a:ext cx="1381320" cy="1590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1600200" y="380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ola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FF15"/>
          <p:cNvPicPr/>
          <p:nvPr/>
        </p:nvPicPr>
        <p:blipFill>
          <a:blip r:embed="rId5"/>
          <a:stretch/>
        </p:blipFill>
        <p:spPr>
          <a:xfrm>
            <a:off x="7261200" y="914400"/>
            <a:ext cx="188280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5562720" y="3276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3048120" y="1371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cratic leaders- some such as Alexander II were more enlightened than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talitari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all tools available to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of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r leg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: Po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, Movies, Spee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stalin_propaganda1"/>
          <p:cNvPicPr/>
          <p:nvPr/>
        </p:nvPicPr>
        <p:blipFill>
          <a:blip r:embed="rId1"/>
          <a:stretch/>
        </p:blipFill>
        <p:spPr>
          <a:xfrm>
            <a:off x="5791320" y="1933560"/>
            <a:ext cx="33526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dic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price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will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Shortages and Oversupplies becom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Workers have little to no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Consumers are given little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dws-t-is-one-Communism"/>
          <p:cNvPicPr/>
          <p:nvPr/>
        </p:nvPicPr>
        <p:blipFill>
          <a:blip r:embed="rId1"/>
          <a:stretch/>
        </p:blipFill>
        <p:spPr>
          <a:xfrm>
            <a:off x="5867280" y="1371600"/>
            <a:ext cx="2629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BUILD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5 Year Pl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talin devises several 5 year plans to make the Soviet Union an Industrial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Infrastructure, Railroads, Mines, Oil and Electrical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v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Europe and America undergo a Horrible Economic Depression as the Soviet Union moves forward at a rapid pac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forced Millions of people off their family farms and made enormous farms which the Government 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were forced to move away, especially in the western Soviet area called the 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deaths due to starvation are in the Mill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img0022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ure01"/>
          <p:cNvPicPr/>
          <p:nvPr/>
        </p:nvPicPr>
        <p:blipFill>
          <a:blip r:embed="rId2"/>
          <a:stretch/>
        </p:blipFill>
        <p:spPr>
          <a:xfrm>
            <a:off x="0" y="0"/>
            <a:ext cx="30672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zar’s Palace- Hermi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viewofhermitage"/>
          <p:cNvPicPr/>
          <p:nvPr/>
        </p:nvPicPr>
        <p:blipFill>
          <a:blip r:embed="rId1"/>
          <a:stretch/>
        </p:blipFill>
        <p:spPr>
          <a:xfrm>
            <a:off x="1295280" y="1438200"/>
            <a:ext cx="66294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ncipation of Serfs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at La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1 Alexander II Ends Serfdom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erfs remain poor pea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dom was still powerful in the mid-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in Russia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bles could even exile serfs to SIBERIA (later communist leaders did the same to cri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II (enlightened despot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more rights to those accused of cr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101-matte"/>
          <p:cNvPicPr/>
          <p:nvPr/>
        </p:nvPicPr>
        <p:blipFill>
          <a:blip r:embed="rId1"/>
          <a:stretch/>
        </p:blipFill>
        <p:spPr>
          <a:xfrm>
            <a:off x="0" y="0"/>
            <a:ext cx="1593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e of the Assassination of Alexander II (188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2895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rchists kill the C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’s son- (yes Alexander III) responded by ruling with an Iron F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477855-Church_of_the_Bleeding_Savior-Saint_Petersburg"/>
          <p:cNvPicPr/>
          <p:nvPr/>
        </p:nvPicPr>
        <p:blipFill>
          <a:blip r:embed="rId1"/>
          <a:stretch/>
        </p:blipFill>
        <p:spPr>
          <a:xfrm>
            <a:off x="3505320" y="19051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505320" y="594216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 of the Blood of the Savior was erected on this site to commemorate Alexander II’s assass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CRACY, ORTHODOX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NA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(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Autocratic Rule – Power of the Czar is abso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the Russian Orthodox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ressing ethnic groups that act “non-Russi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F15"/>
          <p:cNvPicPr/>
          <p:nvPr/>
        </p:nvPicPr>
        <p:blipFill>
          <a:blip r:embed="rId1"/>
          <a:stretch/>
        </p:blipFill>
        <p:spPr>
          <a:xfrm>
            <a:off x="7261200" y="0"/>
            <a:ext cx="1882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werful Russian Orthodox Church supported the Czar and the Czar supported the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tInnocent"/>
          <p:cNvPicPr/>
          <p:nvPr/>
        </p:nvPicPr>
        <p:blipFill>
          <a:blip r:embed="rId1"/>
          <a:stretch/>
        </p:blipFill>
        <p:spPr>
          <a:xfrm>
            <a:off x="3276720" y="2209680"/>
            <a:ext cx="2543040" cy="352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R11"/>
          <p:cNvPicPr/>
          <p:nvPr/>
        </p:nvPicPr>
        <p:blipFill>
          <a:blip r:embed="rId2"/>
          <a:stretch/>
        </p:blipFill>
        <p:spPr>
          <a:xfrm>
            <a:off x="6067440" y="4619520"/>
            <a:ext cx="3076560" cy="223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250px-St_Basils_Cathedral_closeup"/>
          <p:cNvPicPr/>
          <p:nvPr/>
        </p:nvPicPr>
        <p:blipFill>
          <a:blip r:embed="rId3"/>
          <a:stretch/>
        </p:blipFill>
        <p:spPr>
          <a:xfrm>
            <a:off x="380880" y="3124080"/>
            <a:ext cx="23814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holas II- “The Last Czar”- Moving into the 2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Revolution i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ists- Tolsto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r and 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rs- Tchaikov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ization a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s and Cities grow- factory production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y to lend money to invest in new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investment increased- Trans Siberian Railroad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zar"/>
          <p:cNvPicPr/>
          <p:nvPr/>
        </p:nvPicPr>
        <p:blipFill>
          <a:blip r:embed="rId1"/>
          <a:stretch/>
        </p:blipFill>
        <p:spPr>
          <a:xfrm>
            <a:off x="6019920" y="12160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6:48:53Z</dcterms:created>
  <dc:creator>Darien Public Schools</dc:creator>
  <dc:description/>
  <dc:language>en-US</dc:language>
  <cp:lastModifiedBy>Local User</cp:lastModifiedBy>
  <dcterms:modified xsi:type="dcterms:W3CDTF">2014-05-22T12:57:37Z</dcterms:modified>
  <cp:revision>24</cp:revision>
  <dc:subject/>
  <dc:title>Russia</dc:title>
</cp:coreProperties>
</file>